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E07D-F835-4085-8242-38D5C91A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F06-710A-4309-9242-9EF09034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E39-DD74-4B0C-8875-105343CB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F4A-AFD2-42B9-BC8C-133893DF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27B8-EF15-4776-9A11-D23DEEDB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6574-016A-4504-B47A-69743E04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FABD-896C-4D68-A7E9-1288886D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55C3-7F2C-4FC7-BDDD-C6DB4DC2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ED0A-1BC3-40A2-B3AF-37589838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CEF9-99E6-413D-AC54-0354090B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F18-FE4C-40ED-A652-4C0D4B4B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5E5B-8AB2-4DB9-A654-BDFF33C6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A453-0046-43AD-9E8B-4420903FDAC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حليل التقارير المالية في ظل التضخ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8D0-35CB-43C9-8434-9573263BF345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67080" y="1477800"/>
            <a:ext cx="7660800" cy="103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و التضخم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0320" y="3191040"/>
            <a:ext cx="7650720" cy="219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زيادة كمية النقود المتوفرة على كمية السلع والخدمات المعروض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زيادة العامة في ا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خفاض القوة الشرائية للنق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7B0-5F55-4294-A096-0165DC2AC827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ق تعديل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02040"/>
            <a:ext cx="411480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67820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2E1-0703-4B8B-9198-F8D764D3DB6B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346040"/>
            <a:ext cx="7772760" cy="90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917800"/>
            <a:ext cx="8015400" cy="3319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ديل التكلفة التاريخية للاصول والالتز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ى أساس وحدة نقدية ذات قوة شرائية متساوية مرتبطة بالتغ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المستوى العام ل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بناءً عليه يتم تصنيف محتويات قائمة المركز المالي إلى نوع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ن الحسابات: الحسابات النقدية والحسابات غير 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4A3-86FC-46D4-81CA-CC38376EFBE1}" type="slidenum">
              <a:t>4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01160" y="1714680"/>
            <a:ext cx="360360" cy="3744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825120"/>
            <a:ext cx="8020080" cy="9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205000"/>
            <a:ext cx="6933960" cy="168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النقدية مثل المدينون واوراق القبض والمصروفات المقدمة والدائنون واوراق الدفع والمصروفات المستحق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PT Bold Heading"/>
              </a:rPr>
              <a:t>لا تعد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4365720"/>
            <a:ext cx="701028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غير النقدية مثل المخزون والمباني وحقوق الملكية تعدل على النحو التالي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كلفة التاريخية (الرقم القياسي للاسعار الآن / الرقم القياسي للاسعار وقت الشرا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596360" y="28522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740720" y="51130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E78-5249-4B76-ACF6-71E2F58C3703}" type="slidenum">
              <a:t>5</a:t>
            </a:fld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1203120"/>
            <a:ext cx="7772760" cy="90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4960" y="2917800"/>
            <a:ext cx="7512120" cy="33195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عدل التكلفة التاريخية على أساس تكلفة الاحلال الجارية في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لأصول المماثلة في العمر والكفاءة والطاقة الإنتا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616-39D7-4938-97D6-2DF50C6AC12D}" type="slidenum">
              <a:t>6</a:t>
            </a:fld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13:06Z</dcterms:modified>
  <cp:revision>18</cp:revision>
  <dc:subject/>
  <dc:title>التحليل المالي والائتماني</dc:title>
</cp:coreProperties>
</file>